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72260"/>
        <c:axId val="55848156"/>
      </c:barChart>
      <c:catAx>
        <c:axId val="720722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48156"/>
        <c:crosses val="autoZero"/>
        <c:auto val="1"/>
        <c:lblAlgn val="ctr"/>
        <c:lblOffset val="100"/>
        <c:noMultiLvlLbl val="0"/>
      </c:catAx>
      <c:valAx>
        <c:axId val="55848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722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000-A894-4D9F-B0A2-F7D6CE1F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D017-F20C-472D-9CEE-3F091C5A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41B-C62F-4EFB-BFB7-7A52F7A9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8ADD-ACF3-41DD-84F9-6F555C31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058-97CB-4F0E-9D82-89315F98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D6F-F072-4920-9F91-88FB6273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23A1-1D92-4958-8474-A63328B9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D8AF-D7AE-4031-85A6-FA7A464A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9D3-4DBC-477A-9BD1-AA0358EA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588-9E05-4749-BD8F-73675C1D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B179-BBBF-4F0B-8000-F14CB761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7CF-E35A-4117-AFF5-1BA2E465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F31B1-1397-4CD0-8704-FFC3428ED2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