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5978"/>
        <c:axId val="38017348"/>
      </c:barChart>
      <c:catAx>
        <c:axId val="4405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17348"/>
        <c:crosses val="autoZero"/>
        <c:auto val="1"/>
        <c:lblAlgn val="ctr"/>
        <c:lblOffset val="100"/>
        <c:noMultiLvlLbl val="0"/>
      </c:catAx>
      <c:valAx>
        <c:axId val="38017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5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611-E0B3-4E3D-A012-7E3439D6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5B5-FC81-4459-8267-838EADCD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FC6-7759-4696-87C6-BC9A09FF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5E2-4F5C-421A-A12E-EFBB22EB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013-44C4-4CAC-AC92-EC2DAB6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996-C511-42AB-9CD1-3C9FFD3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A0F-BBD4-41A8-B045-7FCD3862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9B6E-0101-449D-98E5-CC85105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4D1-2401-4158-97E7-017F77C0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518-9AEA-42DA-B567-58BF4048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F32-3935-49F8-90EC-832335B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F71-E837-4EF6-B6D6-A04B168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9CE85-FF56-4E29-A224-A4F6BE66D3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