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80896"/>
        <c:axId val="22003207"/>
      </c:barChart>
      <c:catAx>
        <c:axId val="53280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03207"/>
        <c:crosses val="autoZero"/>
        <c:auto val="1"/>
        <c:lblAlgn val="ctr"/>
        <c:lblOffset val="100"/>
        <c:noMultiLvlLbl val="0"/>
      </c:catAx>
      <c:valAx>
        <c:axId val="220032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80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87D-C31D-4FFD-AD97-3C30AB7F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AAD-C69A-4F67-B674-0F1C672E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285-E428-433E-B962-9BB2BB90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D3E-5149-48A1-9BC2-C9CABD20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430-A131-4386-810F-20AA18D0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21C-FEBD-4E4F-AD53-938A178E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D65-A2A6-4EBC-957F-CF0A8E69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314-2C4C-40A9-975E-D862F524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E3B5-8AD9-4448-AAB3-AD2256FE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02C-7EE1-4CD9-96FF-41B4C8E9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438-3B3D-4D00-AC19-892FB8A5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7CC-601C-4D63-9950-C6690EA0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A803D-57F4-4C06-B10E-D12A5A4D5A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