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91847"/>
        <c:axId val="94397623"/>
      </c:barChart>
      <c:catAx>
        <c:axId val="38891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97623"/>
        <c:crosses val="autoZero"/>
        <c:auto val="1"/>
        <c:lblAlgn val="ctr"/>
        <c:lblOffset val="100"/>
        <c:noMultiLvlLbl val="0"/>
      </c:catAx>
      <c:valAx>
        <c:axId val="94397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91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688-4A6C-4BEE-BA48-4E989463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17C-973A-4186-9E72-ED2DD2D7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CB0-F301-4085-BF25-B63B1F22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2B7-FD6B-4AF3-A975-269A04FA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91A-0CDA-4F11-B039-3700129D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8A0-3D1A-4992-8160-A7A9BEB9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A9C-1BFE-45EE-94A5-A39EAB22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71F-6B6B-4609-9582-A9E3E5F8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601-6BB1-44CA-9B06-A672D465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EF0-92AC-4270-A460-2DD1767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C40-7C92-4E70-91DA-8EAC6FEB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AFD-BF24-45F4-A29C-8DB72CE2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CF63B-A13E-487E-A858-15AB09A188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