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59738"/>
        <c:axId val="40827839"/>
      </c:barChart>
      <c:catAx>
        <c:axId val="66559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27839"/>
        <c:crosses val="autoZero"/>
        <c:auto val="1"/>
        <c:lblAlgn val="ctr"/>
        <c:lblOffset val="100"/>
        <c:noMultiLvlLbl val="0"/>
      </c:catAx>
      <c:valAx>
        <c:axId val="408278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59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446-357C-421C-8100-F7FDE9C3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8CCA-558D-42D9-AE27-BEC1247E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691-2FF1-4B71-BE51-039DE28F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8CF-7597-42D2-B2FE-116E1445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340-D624-4806-8F51-9126E196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8CB-AD18-4C8C-B83E-1D83BE3A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9043-98B8-4EE8-9D18-D5BD6D27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FA8-CE8D-4B1D-BEB9-CA7EBE96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8B3-0F2D-4E3B-84D5-D96E8615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CF5-242E-4F28-925A-8C823A33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395-1818-468C-AB01-6C7CD201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39A-E253-41D8-8AB7-C0EEC54E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BA8BF-7558-4814-8F3A-6BAF58AC9D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