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92787"/>
        <c:axId val="34506167"/>
      </c:barChart>
      <c:catAx>
        <c:axId val="48192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6167"/>
        <c:crosses val="autoZero"/>
        <c:auto val="1"/>
        <c:lblAlgn val="ctr"/>
        <c:lblOffset val="100"/>
        <c:noMultiLvlLbl val="0"/>
      </c:catAx>
      <c:valAx>
        <c:axId val="34506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92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9DA-A028-4E8A-9920-F5F753F7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795-78AC-499B-A790-1A48381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5CB-F311-482F-A559-2DDDED1E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013-47C0-40C1-BED4-5D77126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43C-1127-479C-A5DE-AA93CE0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E1A-03CB-4A08-A364-8333574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D52-D7D8-400C-9EE1-32EE133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E6A-BB3F-4815-9490-1CA02C1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9A8-D9AD-44A2-9A52-F5AC0C3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0FD-D115-4739-AC48-2BC0997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7F0-C229-432A-8D07-5B105DF6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ECC-BD38-4BB7-83EA-7576AA3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D20E0-4137-4648-B9C8-E7323102F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