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75394"/>
        <c:axId val="84285899"/>
      </c:barChart>
      <c:catAx>
        <c:axId val="58675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85899"/>
        <c:crosses val="autoZero"/>
        <c:auto val="1"/>
        <c:lblAlgn val="ctr"/>
        <c:lblOffset val="100"/>
        <c:noMultiLvlLbl val="0"/>
      </c:catAx>
      <c:valAx>
        <c:axId val="84285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75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81E-6A55-4421-A8C7-FBD36C58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760-9C45-41CF-9A70-F1B0F769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BD2-9BC9-40CF-B233-0885BFAA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927-6F1D-4E5A-BF64-49639335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4CC-6FE2-448A-8268-49A40329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594-9BB0-411B-ADD1-7B8F7FA8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887-BA60-4B9E-93C7-BB0A0D6A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993-6B87-4625-BCE8-6DC4F939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B33-80BA-4A66-9512-7F140909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A85-22D8-401C-B6BF-33729E2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48C-DD68-4032-B543-70449B4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E8E-5F4F-4007-981D-A9EA70C8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34647-7BD9-4C9D-AC71-0C61EDB831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